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A2D-7D1C-4005-90A8-BF6E03CA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C45-697A-4C9B-9968-7D16A0AE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D64-D46C-4B97-B93D-F417BBE0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29A-AE04-470E-8111-80DC2DD9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02D5-172D-4C05-BEC6-05A65B09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1E66-8331-4880-8054-C091D67E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169D-8E40-4442-9E6D-54229C3C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6B69-BB72-4C79-9DA2-37C6E3F0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517-2331-4037-AC40-7E7B985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436C-D52F-482C-848D-D74389D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6AA6-1E1E-4E7E-A808-23078B9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ABE-B21B-4C9C-A270-18A0CF0D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544B-897C-41B1-B963-53A103DA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048F-E198-4437-9B75-B91649EF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D681-A021-4FD3-BAC4-C353E060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E7B7-6501-47E6-A243-13E5AA4C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ACCB-0E67-47D2-80AB-B8C8B023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BA6-BCC1-462E-8F93-8ED927E0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73F-24AB-472F-BC7F-182EAF12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3F6-696F-4B54-9F1C-A402EE87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E8A-D909-43CB-AEAD-FBE99281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6B5-BE22-4627-B281-453B868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77F-F886-4300-9BFD-25BC9370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A4F-10F1-4E4C-9ACA-E7DDF337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E73D-D873-4D26-84A9-2094A3CA74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8FA3-D260-4441-8B4B-21799C76DC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odul Projektno vod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ja Haz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in 26.10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problema/pril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ključuje socialne, gospodarske, politične pogoje v določenem območ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iza obstoječega stanja (študije, podatki, zakonodaja, rezultati prejšnjih projektov, statistični podatk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OT analiz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92716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30600" y="260280"/>
            <a:ext cx="5786280" cy="635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4319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26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 problemskega dre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-1103" b="60187"/>
          <a:stretch/>
        </p:blipFill>
        <p:spPr>
          <a:xfrm>
            <a:off x="2195640" y="18900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črtovanj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48520" cy="41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prav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problemsko dr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čni okvir projekta – pro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222800"/>
            <a:ext cx="78487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aj uporabiti logični ok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 identificiranje, pripravo, ocenjevanje, izvajanje, spremljanje in vrednotenje projek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6337440" cy="1942920"/>
          </a:xfrm>
          <a:prstGeom prst="flowChartDocument">
            <a:avLst/>
          </a:prstGeom>
          <a:solidFill>
            <a:srgbClr val="808080"/>
          </a:solidFill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zpolnjevanje matrike logičnega okv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je prvi korak pri prip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ojektne 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21240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Logični okvir projekta – matr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28680"/>
                <a:gridCol w="2097360"/>
                <a:gridCol w="2097000"/>
                <a:gridCol w="190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KA INTERVEN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KTIVNO PREVERLJIVI INDIKATOR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DSTVA ZA PREVERJ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POSTAVKE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E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NI CI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EBNI CILJ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OŽENA       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-787" b="64007"/>
          <a:stretch/>
        </p:blipFill>
        <p:spPr>
          <a:xfrm>
            <a:off x="3008160" y="333360"/>
            <a:ext cx="5818320" cy="624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20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čni okvir – log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Namen projekta/ specifični cilj – čem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dro oblikovanja projekta – začetna točka priprave logičnega okvi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mu je namenjen vaš proje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kšne spremembe želite doseči s projek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bi dosegli, če bi bili 100% uspeš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želimo na dolgi r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43640" y="4221000"/>
            <a:ext cx="150840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Že opravljeno del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ipravljeni anali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potreb na lokalnih tr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usposobljenosti institu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dentificirana projekt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/potenciali/prilož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rebe ciljne skup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30184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variti spodbudno podporno oko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i bo s krepitvijo podjetnosti in podjetni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ulture pri mladih v Gorenjski reg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alo na povečanje deleža mladih inovativnih podjetih v reg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ilj mora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cific (specifič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surable (merljiv v smislu, časa, kakovosti in dena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tinable (doseglj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listic (rea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bound (časovno opredelj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80000" y="3749760"/>
            <a:ext cx="3168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0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edel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amen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in ci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Načrtovanje akti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in za doseganje rezultatov in ciljev projek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, kdaj, kje k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rt aktivnosti najbolj viden del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 prepodrobno, le sklopi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inančni, človeški in materialni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lična orod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WBS: strukturna členitev projek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Gant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režni dia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rminski nač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455920"/>
            <a:ext cx="8785440" cy="30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črtovanj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568720" cy="4588920"/>
        </p:xfrm>
        <a:graphic>
          <a:graphicData uri="http://schemas.openxmlformats.org/drawingml/2006/table">
            <a:tbl>
              <a:tblPr/>
              <a:tblGrid>
                <a:gridCol w="3097800"/>
                <a:gridCol w="960840"/>
                <a:gridCol w="808200"/>
                <a:gridCol w="1213920"/>
                <a:gridCol w="1434600"/>
                <a:gridCol w="10533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rt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. d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š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enje in koordin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is kulturne dedišč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zbor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ja in razši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Rez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zulta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do, na kakšen način bomo dosegali cilje (dolgoročni in takojšn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 ali storitve, kompetence in zmogljivosti, ki so direktni rezultat projektn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40360" y="40179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Kazalniki / indikatorji</a:t>
            </a:r>
            <a:r>
              <a:rPr b="0" lang="sl-SI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 njimi opisujemo, merimo količinske in kakovostne spreme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 definiranju indikatorjev upoštevajmo: QQTL (Quality, Quantity, Timing,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lity (pričakovana kakovost, način sprememb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ntity (pričakovan obseg sprememb, npr.: kolik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Timing (do kdaj se naj zgodi sprememb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Location (področje doseganja rezultatov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81296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dvidevanja/pogoji, tveganj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goji, okoliščine, zunanji dejavniki, ki lahko ogrozijo izvedbo projekta, vendar nanje nimamo neposrednega vpliva - zato jih je treba skrbno preuči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5923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Sredstva za verifikacijo/ preverjanj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vejo kje in v kakšni obliki lahko najdemo informacije o doseganju ciljev in rezultat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čne informacije, vprašalniki, analize, projektna dokumentacija, liste prisotnosti, zapisniki srečan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1878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Še potreb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109600" cy="23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2203560"/>
            <a:ext cx="623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riprava projektnega predl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12 projektnih predlo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kuj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klope aktivnost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ši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čakovane rezul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roizvodi, storitve, kompetence) projekta, ki bodo prispevali k cilje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6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rašanj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25952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12 projekto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 članska interna strokovna komisija bo ocenjevala sklope in podsk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ene od 1-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1 = zelo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2 =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3 = sprejemljiv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4 = dobro 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5 = zelo do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inimalno število točk je 335 točk oziroma 67% vseh možnih toč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projektov 12 projekt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otencialnega nosilca in partnerj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60 toč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Ustreznost proj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7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rojektnih aktivnosti in  pričakovani rezult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100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Trajnost in potencialni učin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Finančni načrt in stroškovna učinkovit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ki – do kd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dokončne anal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i osnutek projektnega predl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o svet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0.11 2007 do 14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ončno oblikovani in posredovani projektni pred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1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jevanje projektnih predlo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03.01.2007 do 10.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33ff"/>
                </a:solidFill>
                <a:latin typeface="Arial"/>
              </a:rPr>
              <a:t>Matjaž Gol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im, Center razvoja človeških virov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breška cesta 20, 2000 Mari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lektronski naslov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m.golob@center-rcv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z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ijsk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načrtov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izv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zaklj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50520" y="1812960"/>
            <a:ext cx="4062240" cy="3836520"/>
            <a:chOff x="4250520" y="1812960"/>
            <a:chExt cx="4062240" cy="3836520"/>
          </a:xfrm>
        </p:grpSpPr>
        <p:grpSp>
          <p:nvGrpSpPr>
            <p:cNvPr id="118" name=""/>
            <p:cNvGrpSpPr/>
            <p:nvPr/>
          </p:nvGrpSpPr>
          <p:grpSpPr>
            <a:xfrm>
              <a:off x="4250520" y="1812960"/>
              <a:ext cx="4062240" cy="3836520"/>
              <a:chOff x="4250520" y="1812960"/>
              <a:chExt cx="4062240" cy="383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04480" y="18129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71480" y="282852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71480" y="406980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04480" y="50853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0520" y="406980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50520" y="282852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016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972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800000">
                <a:off x="729720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458892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88920" y="350568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635600" y="350532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6139800" y="2517840"/>
                <a:ext cx="338400" cy="1184760"/>
              </a:xfrm>
              <a:prstGeom prst="upArrow">
                <a:avLst>
                  <a:gd name="adj1" fmla="val 33333"/>
                  <a:gd name="adj2" fmla="val 82875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4480" y="19256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Program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71480" y="294120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200" spc="-1" strike="noStrike">
                    <a:solidFill>
                      <a:srgbClr val="000000"/>
                    </a:solidFill>
                    <a:latin typeface="Trebuchet MS"/>
                  </a:rPr>
                  <a:t>Indentifik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1480" y="418248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Oblikov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04480" y="51980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Financ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50520" y="418248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Izvaj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50520" y="294120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Evalv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d projektne ideje do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316692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10-22T10:25:12Z</dcterms:modified>
  <cp:revision>19</cp:revision>
  <dc:subject/>
  <dc:title>Diapozitiv 1</dc:title>
</cp:coreProperties>
</file>